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FDBF-66B3-49C3-883D-2E7DA660B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4DF6-A2B0-4A5F-867B-6A77BF236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C242-4AC5-4B64-8BA8-CD252D52F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C77E-A6B2-4113-AFA1-8DE46B718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F420-2489-4499-9A92-2C78C625FD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BB24-7974-422E-BB28-CF859A24B9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69F1-DDF9-43CB-8545-2F4B1A820D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0B64-3519-4546-B903-448E69FD1D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D6E5-322D-426E-BFB3-F8F4CBE84D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BED9-72AD-4F67-85E0-71C61D6297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72F5-3776-4B29-8AF1-F2E7BD35D0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E202-A7D2-4DD5-B73A-FB28F5B73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3105-5CB9-4C4B-89B1-E0BB0DDF3F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32F3-DBC2-4CC2-BE3E-135A6E5E7F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2D86-5AC0-47DF-9255-289B53AFDF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CE44-C9A1-467B-A234-D68626458C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3890-35BE-4E70-BFA1-79F5102C46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866-388C-41FD-B19B-A0099C6DAE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BE7-2FAF-463B-8584-2218F1CC9A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2B7-2A19-4BBB-B60F-33A9913821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E9C-87BC-42AB-B739-15E86689B6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399-3F78-41AD-817A-79AB45C20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E392-26EF-4996-91AB-4C374630E1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13E-475B-46A6-A316-583E17461F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28B-9942-4464-A76B-A69705FA5E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9C3-DEDC-49C9-BF17-0ED2B99176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E59-E17D-4D31-A720-BB048F6066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834-20C7-4BCA-8D23-AC568553D0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347-430B-432C-974D-E4C705D99E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C55-A6B9-4747-A740-9276D52BAA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BBC3B-16FF-44E0-9EC4-CBFC5C0BFF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CAEA3-B14C-44C5-AF39-C45320A6F7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03C7F-E78C-46CD-A323-BD679F4FB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A9C7-A2F9-4DEE-B776-42804F856F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654BA-00F4-4679-A99C-1F346F666F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97480-1A11-4F3A-8B6C-FE7E6299CC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418A3-516D-44A2-9F4C-49277F4626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B7E3E-5D60-4E86-9E12-D072549D18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4C565-9C00-488F-875A-6B4B50D92B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6005D-F1A0-4782-AEF7-F209DB6E8A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302AB-2B6D-4B56-9859-00AC8BA7BB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99624-A1AB-4BD8-B805-D0DF5E175E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A548B-F362-4ED2-AF16-20D3EF4640D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34E98-B9D0-4BE7-8CE7-2BC8350C6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0B56-DF20-49E8-949B-EAF01CCDFAA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90797-3538-406C-BBF7-217D528BE6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0E8E6-3E85-40AF-B333-35BA9C4E9E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83164-DD52-475D-9223-563B9843333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30C61-3237-44B4-964B-9DA098A80E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FCA08-1F12-4AA3-A50B-071DC779ED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9D554-41B5-4B37-824F-56E3BA9E24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5EACD-D753-43A9-87CC-F2FA0C7A77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FBBF9-7DA7-4BC5-8B97-84FC7535734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1C29D-A035-41A7-837A-B098F9262E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EB455-D776-4DEE-AC30-CB0225F5B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FAD0-6F7E-47ED-B308-29195B44AF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9140F-E971-4EDE-BDF9-FDEE9C52C2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0183-21E9-41D1-B0A6-06045A9F81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A5E8-477A-415B-8529-8D25945A72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3155-0DD1-4D33-8BFD-8DAA542C881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3D78-8ABA-4B32-A7EB-367A47613D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D312-6EBF-4109-AA81-24CA41E923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BDC8-BF2A-4933-AECF-79B854F7CBB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4EF9-FA13-4A26-AA54-1704FBD207E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EFC2-C231-4FF6-B5A3-EF1C3BC7577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4C27-B1BF-4C03-9DC5-D82C2AC59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888F-C191-4E61-8620-631D9185420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A671-C5A1-436E-9811-24FA44CFCC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0265-CC07-4B48-B82E-B0B94C8581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3FCA-BA9A-46B8-9D9A-4EC8B6381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88A2-52D8-40EE-8B21-9E3B34A2A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192F-00EC-4933-8159-9330C1173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28160" cy="2578320"/>
            <a:chOff x="3240" y="4267080"/>
            <a:chExt cx="9128160" cy="25783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28160" cy="25783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44520" cy="814320"/>
              <a:chOff x="5600880" y="5897520"/>
              <a:chExt cx="1244520" cy="81432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3160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04880" cy="424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33520" cy="3160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03200" cy="239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292320" cy="1569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595440" cy="2430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692280" cy="918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28520" cy="3304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77920" cy="7192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40040" cy="349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20960" cy="71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68600" cy="1071360"/>
              <a:chOff x="2819520" y="5764320"/>
              <a:chExt cx="2568600" cy="107136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00080" cy="585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49240" cy="5140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82640" cy="462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692280" cy="396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42960" cy="36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73400" cy="291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47760" cy="2016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299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00200" cy="2826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03280" cy="7207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33600" cy="7588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12920" cy="2253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58840" cy="71892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58720" cy="8809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698480" cy="662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42920" cy="35856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50600" cy="100476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32280" cy="1290600"/>
              <a:chOff x="6553080" y="5334120"/>
              <a:chExt cx="2132280" cy="12906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893960" cy="11476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51040" cy="11574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54360" cy="3873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f8f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01880" cy="730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06280" cy="1587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14560" cy="5288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18800" cy="1299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25720" cy="6717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30280" cy="83340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66640" cy="921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91800" cy="633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09640" cy="493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695160" cy="41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00120" cy="3574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60440" cy="268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39480" cy="2080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87560" cy="115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62040" cy="396720"/>
              <a:chOff x="8381880" y="4800600"/>
              <a:chExt cx="662040" cy="39672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595440" cy="1396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396720" cy="730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82440" cy="2350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292320" cy="158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43000" cy="2826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82600" cy="3207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61880" cy="2826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47400" cy="196920"/>
                <a:chOff x="8542440" y="4897440"/>
                <a:chExt cx="347400" cy="1969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47400" cy="19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7612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85760" cy="11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0332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1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CFDBC-1BA5-42F8-9280-B06E530A93E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531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6840" y="1719000"/>
            <a:ext cx="8217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410AE8-32A1-46EE-8339-93DB8CC29E7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153280" y="152280"/>
            <a:ext cx="779760" cy="1282680"/>
            <a:chOff x="8153280" y="152280"/>
            <a:chExt cx="779760" cy="1282680"/>
          </a:xfrm>
        </p:grpSpPr>
        <p:sp>
          <p:nvSpPr>
            <p:cNvPr id="113" name=""/>
            <p:cNvSpPr/>
            <p:nvPr/>
          </p:nvSpPr>
          <p:spPr>
            <a:xfrm>
              <a:off x="8153280" y="152280"/>
              <a:ext cx="108000" cy="108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1760" y="152280"/>
              <a:ext cx="108000" cy="108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89880" y="152280"/>
              <a:ext cx="108000" cy="108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53280" y="320760"/>
              <a:ext cx="108000" cy="108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21760" y="320760"/>
              <a:ext cx="108000" cy="108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89880" y="320760"/>
              <a:ext cx="108000" cy="108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56560" y="320760"/>
              <a:ext cx="108000" cy="108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53280" y="488880"/>
              <a:ext cx="108000" cy="108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21760" y="488880"/>
              <a:ext cx="108000" cy="108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89880" y="488880"/>
              <a:ext cx="108000" cy="108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56560" y="488880"/>
              <a:ext cx="108000" cy="108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25040" y="488880"/>
              <a:ext cx="108000" cy="1080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53280" y="655560"/>
              <a:ext cx="108000" cy="108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21760" y="655560"/>
              <a:ext cx="108000" cy="108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89880" y="655560"/>
              <a:ext cx="108000" cy="108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6560" y="655560"/>
              <a:ext cx="108000" cy="1080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53280" y="824040"/>
              <a:ext cx="108000" cy="108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1760" y="824040"/>
              <a:ext cx="108000" cy="108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89880" y="824040"/>
              <a:ext cx="108000" cy="1080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56560" y="824040"/>
              <a:ext cx="108000" cy="1080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25040" y="824040"/>
              <a:ext cx="108000" cy="1080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53280" y="992160"/>
              <a:ext cx="108000" cy="108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21760" y="992160"/>
              <a:ext cx="108000" cy="1080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89880" y="992160"/>
              <a:ext cx="108000" cy="1080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56560" y="992160"/>
              <a:ext cx="108000" cy="1080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53280" y="1160640"/>
              <a:ext cx="108000" cy="106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21760" y="1160640"/>
              <a:ext cx="108000" cy="106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89880" y="1160640"/>
              <a:ext cx="108000" cy="106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56560" y="1160640"/>
              <a:ext cx="108000" cy="106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21760" y="1328760"/>
              <a:ext cx="108000" cy="106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56560" y="1328760"/>
              <a:ext cx="108000" cy="106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6997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69976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826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ED58947-7488-4AEE-A950-A60157CDA1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371600" y="291600"/>
            <a:ext cx="1440" cy="13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3240" y="4267080"/>
            <a:ext cx="9128160" cy="2578320"/>
            <a:chOff x="3240" y="4267080"/>
            <a:chExt cx="9128160" cy="2578320"/>
          </a:xfrm>
        </p:grpSpPr>
        <p:sp>
          <p:nvSpPr>
            <p:cNvPr id="226" name=""/>
            <p:cNvSpPr/>
            <p:nvPr/>
          </p:nvSpPr>
          <p:spPr>
            <a:xfrm>
              <a:off x="3240" y="4267080"/>
              <a:ext cx="9128160" cy="25783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600880" y="5897520"/>
              <a:ext cx="1244520" cy="814320"/>
              <a:chOff x="5600880" y="5897520"/>
              <a:chExt cx="1244520" cy="814320"/>
            </a:xfrm>
          </p:grpSpPr>
          <p:sp>
            <p:nvSpPr>
              <p:cNvPr id="228" name=""/>
              <p:cNvSpPr/>
              <p:nvPr/>
            </p:nvSpPr>
            <p:spPr>
              <a:xfrm>
                <a:off x="5853240" y="6048360"/>
                <a:ext cx="83160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16600" y="6095880"/>
                <a:ext cx="704880" cy="424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05520" y="6146640"/>
                <a:ext cx="533520" cy="3160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68880" y="6184800"/>
                <a:ext cx="403200" cy="239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22880" y="6226200"/>
                <a:ext cx="292320" cy="1569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676840" y="5897520"/>
                <a:ext cx="595440" cy="2430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67280" y="6620040"/>
                <a:ext cx="692280" cy="918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00880" y="6200640"/>
                <a:ext cx="128520" cy="3304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67480" y="5945040"/>
                <a:ext cx="1177920" cy="7192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410160" y="5907240"/>
                <a:ext cx="140040" cy="349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208560" y="6267600"/>
                <a:ext cx="120960" cy="71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819520" y="5764320"/>
              <a:ext cx="2568600" cy="1071360"/>
              <a:chOff x="2819520" y="5764320"/>
              <a:chExt cx="2568600" cy="1071360"/>
            </a:xfrm>
          </p:grpSpPr>
          <p:sp>
            <p:nvSpPr>
              <p:cNvPr id="240" name=""/>
              <p:cNvSpPr/>
              <p:nvPr/>
            </p:nvSpPr>
            <p:spPr>
              <a:xfrm>
                <a:off x="3600360" y="6245280"/>
                <a:ext cx="1000080" cy="585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73440" y="6283440"/>
                <a:ext cx="849240" cy="5140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16280" y="6316560"/>
                <a:ext cx="782640" cy="4622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9120" y="6345360"/>
                <a:ext cx="692280" cy="396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86120" y="6357960"/>
                <a:ext cx="642960" cy="36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68560" y="6391440"/>
                <a:ext cx="473400" cy="291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30480" y="6438960"/>
                <a:ext cx="347760" cy="2016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35600" y="6504120"/>
                <a:ext cx="1299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03640" y="6067440"/>
                <a:ext cx="700200" cy="2826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00560" y="6114960"/>
                <a:ext cx="1403280" cy="7207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05160" y="6076800"/>
                <a:ext cx="633600" cy="7588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41920" y="6419880"/>
                <a:ext cx="158760" cy="3873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82840" y="5850000"/>
                <a:ext cx="1312920" cy="2253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63880" y="6116760"/>
                <a:ext cx="258840" cy="71892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84680" y="5954760"/>
                <a:ext cx="558720" cy="8809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679920" y="5764320"/>
                <a:ext cx="1698480" cy="662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45200" y="6477120"/>
                <a:ext cx="142920" cy="35856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19520" y="5830920"/>
                <a:ext cx="750600" cy="100476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6553080" y="5334120"/>
              <a:ext cx="2132280" cy="1290600"/>
              <a:chOff x="6553080" y="5334120"/>
              <a:chExt cx="2132280" cy="1290600"/>
            </a:xfrm>
          </p:grpSpPr>
          <p:sp>
            <p:nvSpPr>
              <p:cNvPr id="259" name=""/>
              <p:cNvSpPr/>
              <p:nvPr/>
            </p:nvSpPr>
            <p:spPr>
              <a:xfrm>
                <a:off x="6667560" y="5400720"/>
                <a:ext cx="1893960" cy="11476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553080" y="5343480"/>
                <a:ext cx="851040" cy="11574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07160" y="5334120"/>
                <a:ext cx="954360" cy="3873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f8f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327880" y="6361200"/>
                <a:ext cx="101880" cy="730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51760" y="6465960"/>
                <a:ext cx="1106280" cy="1587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470800" y="5800680"/>
                <a:ext cx="214560" cy="5288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034480" y="5753160"/>
                <a:ext cx="118800" cy="1299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56360" y="5638680"/>
                <a:ext cx="1125720" cy="6717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04080" y="5572080"/>
                <a:ext cx="1430280" cy="83340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245360" y="5543640"/>
                <a:ext cx="566640" cy="921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85160" y="5648400"/>
                <a:ext cx="91800" cy="633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216920" y="5727600"/>
                <a:ext cx="809640" cy="493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67680" y="5762520"/>
                <a:ext cx="695160" cy="41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318440" y="5794200"/>
                <a:ext cx="600120" cy="3574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88280" y="5838840"/>
                <a:ext cx="460440" cy="268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45520" y="5870520"/>
                <a:ext cx="339480" cy="2080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21480" y="5918040"/>
                <a:ext cx="187560" cy="115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8381880" y="4800600"/>
              <a:ext cx="662040" cy="396720"/>
              <a:chOff x="8381880" y="4800600"/>
              <a:chExt cx="662040" cy="39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8381880" y="5057640"/>
                <a:ext cx="595440" cy="1396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437680" y="4800600"/>
                <a:ext cx="396720" cy="730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961480" y="4867200"/>
                <a:ext cx="82440" cy="2350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532720" y="5153040"/>
                <a:ext cx="292320" cy="158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420040" y="4829040"/>
                <a:ext cx="243000" cy="2826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713800" y="4829040"/>
                <a:ext cx="282600" cy="3207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485200" y="4854600"/>
                <a:ext cx="461880" cy="2826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8542440" y="4897440"/>
                <a:ext cx="347400" cy="196920"/>
                <a:chOff x="8542440" y="4897440"/>
                <a:chExt cx="347400" cy="1969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8542440" y="4897440"/>
                  <a:ext cx="347400" cy="19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577360" y="4919760"/>
                  <a:ext cx="27612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621640" y="4935600"/>
                  <a:ext cx="185760" cy="11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664480" y="4960800"/>
                  <a:ext cx="10332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F5112A-ACCF-4412-8C4F-6251D6D0D3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493040" y="2992320"/>
            <a:ext cx="1325520" cy="2176560"/>
            <a:chOff x="7493040" y="2992320"/>
            <a:chExt cx="1325520" cy="2176560"/>
          </a:xfrm>
        </p:grpSpPr>
        <p:sp>
          <p:nvSpPr>
            <p:cNvPr id="332" name=""/>
            <p:cNvSpPr/>
            <p:nvPr/>
          </p:nvSpPr>
          <p:spPr>
            <a:xfrm>
              <a:off x="7493040" y="2992320"/>
              <a:ext cx="189000" cy="189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77080" y="2992320"/>
              <a:ext cx="189000" cy="189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61480" y="2992320"/>
              <a:ext cx="188640" cy="189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93040" y="3276720"/>
              <a:ext cx="189000" cy="18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77080" y="3276720"/>
              <a:ext cx="189000" cy="18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61480" y="3276720"/>
              <a:ext cx="188640" cy="188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45520" y="3276720"/>
              <a:ext cx="189000" cy="18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93040" y="3560760"/>
              <a:ext cx="189000" cy="189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7080" y="3560760"/>
              <a:ext cx="189000" cy="1890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61480" y="3560760"/>
              <a:ext cx="188640" cy="189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45520" y="3560760"/>
              <a:ext cx="189000" cy="1890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29560" y="3560760"/>
              <a:ext cx="189000" cy="1890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93040" y="3843360"/>
              <a:ext cx="189000" cy="190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77080" y="3843360"/>
              <a:ext cx="189000" cy="190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61480" y="3843360"/>
              <a:ext cx="188640" cy="190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45520" y="3843360"/>
              <a:ext cx="189000" cy="190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93040" y="4127400"/>
              <a:ext cx="189000" cy="190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77080" y="4127400"/>
              <a:ext cx="189000" cy="190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61480" y="4127400"/>
              <a:ext cx="188640" cy="190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45520" y="4127400"/>
              <a:ext cx="189000" cy="190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629560" y="4127400"/>
              <a:ext cx="189000" cy="1904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3040" y="4411800"/>
              <a:ext cx="189000" cy="188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77080" y="4411800"/>
              <a:ext cx="189000" cy="18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61480" y="4411800"/>
              <a:ext cx="188640" cy="188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5520" y="4411800"/>
              <a:ext cx="189000" cy="188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93040" y="4695840"/>
              <a:ext cx="189000" cy="1890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77080" y="4695840"/>
              <a:ext cx="189000" cy="1890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61480" y="4695840"/>
              <a:ext cx="188640" cy="1890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45520" y="4695840"/>
              <a:ext cx="189000" cy="1890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77080" y="4979880"/>
              <a:ext cx="189000" cy="1890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45520" y="4979880"/>
              <a:ext cx="189000" cy="1890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531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719000"/>
            <a:ext cx="8217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1211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1C57AD-1177-4367-9410-CA82431DA17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905120" y="1219320"/>
            <a:ext cx="144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3880" y="-52560"/>
            <a:ext cx="6997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699768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6"/>
          </p:nvPr>
        </p:nvSpPr>
        <p:spPr>
          <a:xfrm>
            <a:off x="2209680" y="6248520"/>
            <a:ext cx="12067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C6C877E-893A-4287-B558-14F853015F35}" type="slidenum">
              <a:rPr b="0" lang="ru-RU" sz="1400" spc="-1" strike="noStrike">
                <a:solidFill>
                  <a:srgbClr val="336666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539640" y="720720"/>
            <a:ext cx="8280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Доклад на тему:</a:t>
            </a: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Особенности создания и работы с электронным учебником по дисциплине</a:t>
            </a: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«Основы геодезии»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Бурдина Марина Борисовна - преподаватель спец. дисциплин  ГБОУ СПО (ССУЗ) «Южно- Уральский многопрофильный колледж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8160" y="25560"/>
            <a:ext cx="9144000" cy="68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9144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720720" y="1441440"/>
            <a:ext cx="77724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828036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800360" y="2700360"/>
            <a:ext cx="61736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38160" y="-209520"/>
            <a:ext cx="9144000" cy="72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7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9640" y="170820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" y="1644480"/>
            <a:ext cx="1810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6360" y="-25092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9144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7:05:20Z</dcterms:created>
  <dc:creator>Admin</dc:creator>
  <dc:description/>
  <dc:language>en-US</dc:language>
  <cp:lastModifiedBy>Student</cp:lastModifiedBy>
  <dcterms:modified xsi:type="dcterms:W3CDTF">2011-09-20T04:47:38Z</dcterms:modified>
  <cp:revision>25</cp:revision>
  <dc:subject/>
  <dc:title>Практическое занятие № 1.</dc:title>
</cp:coreProperties>
</file>