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42E-3B85-414F-B0B7-ABF53FDF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D87-9606-46CD-9FCD-4519276D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EF7-DCC8-4762-86AE-4BFF4B5B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C93-41CC-4360-A9AB-A6D98C0E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F5E0-A5B9-4A8D-B8BD-187525AA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FA9A-960B-4649-A8E7-45356DF9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1298-73A4-4BAE-896B-990917ED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5730-F17A-48CA-A564-334324D3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B29-DC87-41CC-A52C-EFB24EA9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913F-E84B-4908-ACA4-553762C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3683-6994-4AAA-BFD2-F35A0997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11E-5CE7-49C2-A46A-0EBD273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27A4-F708-40E5-BE3E-19268571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7D78-2D94-4B74-BE57-56E7AC8B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6766-CFB9-4E67-AD13-4148BDB5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83B8-6633-4BC6-AC88-4B530551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C92F-5B61-4CE5-9D57-6A62950A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8C4F-DF30-4E9B-889B-B305FA79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B990-D001-4130-AE57-8EE0C6D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5D361-4590-47BE-BAA5-61873953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38B0-10D7-4015-8B03-E218384F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68DE-FAE9-4919-AC65-3033CC50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934-C6DF-4EE7-B261-FA77627F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3986-A06F-484B-B425-25CDDA9D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A4F6-BB24-4286-AC6F-6E044CC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667A-8B94-47DB-A079-63AD98C6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2942-AF80-4466-AED8-25553AD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3CBD-8A46-4152-B136-EA73755D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9381-BCC7-49C9-A3D1-65D47C04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6983-4839-4265-B538-7AC86526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5BCB-5D8F-4173-95F7-48555842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A852-EFAC-47D7-B3CB-B3DB394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6312-40F8-48ED-B19D-16095F35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AE3-4C62-4194-BF3F-DFBBB82B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A7FC-9CD9-4555-8737-D6EED7E4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3E9E-9EA4-45D3-A454-3BD1318A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7623-97B4-49E1-96F0-76AD6C65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1DD0-55B4-4A95-B7F1-E7A28A16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8A0EE-A268-4D54-B2F5-8A83A0C3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5A90A-1E10-4E5B-877B-42FF712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179C-21F2-47E4-9C08-9E9F0ECB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87A4-B585-460B-90AC-FD7DEB52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FA6D-D4BC-426C-A126-6D34B453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69F-0D98-4B11-B941-B1E90E91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69E-D584-4908-A1B0-0FDB2BED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FAF-E232-499A-A4B7-26CB09D8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530-AE5F-417D-90AF-9AEED96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2D3-CE5C-46FB-83F5-C5C74A5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A05A-6CDA-4EAE-BFF0-6A4BED67EEB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600A-5AB6-47AE-B95D-0074E9952BA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F8C-49B1-4F65-B85F-90122A0129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8DE5-C6F1-4C4F-AFC9-2170B52FD21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3"/>
          <p:cNvSpPr/>
          <p:nvPr/>
        </p:nvSpPr>
        <p:spPr>
          <a:xfrm>
            <a:off x="285840" y="1500120"/>
            <a:ext cx="864396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программ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Project Exper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скаева О.Г. преподаватель ГБОУ СПО (ССУЗ) «ЮУМК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.04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Прогнозный отчет о движении денежных средств в Project Expert"/>
          <p:cNvPicPr/>
          <p:nvPr/>
        </p:nvPicPr>
        <p:blipFill>
          <a:blip r:embed="rId1"/>
          <a:stretch/>
        </p:blipFill>
        <p:spPr>
          <a:xfrm>
            <a:off x="428760" y="642960"/>
            <a:ext cx="84232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Оценка эффективности инвестиций и финансовые показатели в Project Expert"/>
          <p:cNvPicPr/>
          <p:nvPr/>
        </p:nvPicPr>
        <p:blipFill>
          <a:blip r:embed="rId1"/>
          <a:stretch/>
        </p:blipFill>
        <p:spPr>
          <a:xfrm>
            <a:off x="500040" y="557280"/>
            <a:ext cx="835812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Дополнительные пользовательские отчеты в Project Expert"/>
          <p:cNvPicPr/>
          <p:nvPr/>
        </p:nvPicPr>
        <p:blipFill>
          <a:blip r:embed="rId1"/>
          <a:stretch/>
        </p:blipFill>
        <p:spPr>
          <a:xfrm>
            <a:off x="571680" y="428760"/>
            <a:ext cx="80722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Определение точки безубыточности в Project Expert"/>
          <p:cNvPicPr/>
          <p:nvPr/>
        </p:nvPicPr>
        <p:blipFill>
          <a:blip r:embed="rId1"/>
          <a:stretch/>
        </p:blipFill>
        <p:spPr>
          <a:xfrm>
            <a:off x="500040" y="571680"/>
            <a:ext cx="78580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Редактирование исходных данных проекта в Project Expert"/>
          <p:cNvPicPr/>
          <p:nvPr/>
        </p:nvPicPr>
        <p:blipFill>
          <a:blip r:embed="rId1"/>
          <a:stretch/>
        </p:blipFill>
        <p:spPr>
          <a:xfrm>
            <a:off x="357120" y="552600"/>
            <a:ext cx="82868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3.png"/>
          <p:cNvPicPr/>
          <p:nvPr/>
        </p:nvPicPr>
        <p:blipFill>
          <a:blip r:embed="rId1"/>
          <a:stretch/>
        </p:blipFill>
        <p:spPr>
          <a:xfrm>
            <a:off x="4681440" y="0"/>
            <a:ext cx="4462560" cy="32148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4.png"/>
          <p:cNvPicPr/>
          <p:nvPr/>
        </p:nvPicPr>
        <p:blipFill>
          <a:blip r:embed="rId2"/>
          <a:stretch/>
        </p:blipFill>
        <p:spPr>
          <a:xfrm>
            <a:off x="3214800" y="857160"/>
            <a:ext cx="4459320" cy="30718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5" descr="19.png"/>
          <p:cNvPicPr/>
          <p:nvPr/>
        </p:nvPicPr>
        <p:blipFill>
          <a:blip r:embed="rId3"/>
          <a:stretch/>
        </p:blipFill>
        <p:spPr>
          <a:xfrm>
            <a:off x="2500200" y="2000160"/>
            <a:ext cx="4000680" cy="26845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6" descr="15.png"/>
          <p:cNvPicPr/>
          <p:nvPr/>
        </p:nvPicPr>
        <p:blipFill>
          <a:blip r:embed="rId4"/>
          <a:stretch/>
        </p:blipFill>
        <p:spPr>
          <a:xfrm>
            <a:off x="1143000" y="2857680"/>
            <a:ext cx="4000680" cy="27144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9" descr="17.png"/>
          <p:cNvPicPr/>
          <p:nvPr/>
        </p:nvPicPr>
        <p:blipFill>
          <a:blip r:embed="rId5"/>
          <a:stretch/>
        </p:blipFill>
        <p:spPr>
          <a:xfrm>
            <a:off x="214200" y="4200480"/>
            <a:ext cx="3929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2" descr="2.png"/>
          <p:cNvPicPr/>
          <p:nvPr/>
        </p:nvPicPr>
        <p:blipFill>
          <a:blip r:embed="rId1"/>
          <a:stretch/>
        </p:blipFill>
        <p:spPr>
          <a:xfrm>
            <a:off x="4714920" y="214200"/>
            <a:ext cx="4218120" cy="2853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4" descr="1.png"/>
          <p:cNvPicPr/>
          <p:nvPr/>
        </p:nvPicPr>
        <p:blipFill>
          <a:blip r:embed="rId2"/>
          <a:stretch/>
        </p:blipFill>
        <p:spPr>
          <a:xfrm>
            <a:off x="2000160" y="1643040"/>
            <a:ext cx="4432320" cy="30002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6" descr="29.png"/>
          <p:cNvPicPr/>
          <p:nvPr/>
        </p:nvPicPr>
        <p:blipFill>
          <a:blip r:embed="rId3"/>
          <a:stretch/>
        </p:blipFill>
        <p:spPr>
          <a:xfrm>
            <a:off x="571680" y="3714840"/>
            <a:ext cx="427968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9" descr="Функциональное назначение программы Project Expert"/>
          <p:cNvPicPr/>
          <p:nvPr/>
        </p:nvPicPr>
        <p:blipFill>
          <a:blip r:embed="rId1"/>
          <a:stretch/>
        </p:blipFill>
        <p:spPr>
          <a:xfrm>
            <a:off x="357120" y="714240"/>
            <a:ext cx="85010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21" descr="Функциональное назначение программы Project Expert"/>
          <p:cNvPicPr/>
          <p:nvPr/>
        </p:nvPicPr>
        <p:blipFill>
          <a:blip r:embed="rId1"/>
          <a:stretch/>
        </p:blipFill>
        <p:spPr>
          <a:xfrm>
            <a:off x="500040" y="571680"/>
            <a:ext cx="8143920" cy="61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22" descr="Функциональное назначение программы Project Expert"/>
          <p:cNvPicPr/>
          <p:nvPr/>
        </p:nvPicPr>
        <p:blipFill>
          <a:blip r:embed="rId1"/>
          <a:stretch/>
        </p:blipFill>
        <p:spPr>
          <a:xfrm>
            <a:off x="642960" y="571680"/>
            <a:ext cx="7858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23" descr="Функциональное назначение программы Project Expert"/>
          <p:cNvPicPr/>
          <p:nvPr/>
        </p:nvPicPr>
        <p:blipFill>
          <a:blip r:embed="rId1"/>
          <a:stretch/>
        </p:blipFill>
        <p:spPr>
          <a:xfrm>
            <a:off x="571680" y="428760"/>
            <a:ext cx="78580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Моделирование налогов в Project Expert"/>
          <p:cNvPicPr/>
          <p:nvPr/>
        </p:nvPicPr>
        <p:blipFill>
          <a:blip r:embed="rId1"/>
          <a:stretch/>
        </p:blipFill>
        <p:spPr>
          <a:xfrm>
            <a:off x="714240" y="571680"/>
            <a:ext cx="7953480" cy="59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Моделирование зависимости сбыта одного продукта от других в Project Expert"/>
          <p:cNvPicPr/>
          <p:nvPr/>
        </p:nvPicPr>
        <p:blipFill>
          <a:blip r:embed="rId1"/>
          <a:stretch/>
        </p:blipFill>
        <p:spPr>
          <a:xfrm>
            <a:off x="642960" y="600120"/>
            <a:ext cx="800100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Моделирование увеличения производства при ограниченном спросе в Project Expert"/>
          <p:cNvPicPr/>
          <p:nvPr/>
        </p:nvPicPr>
        <p:blipFill>
          <a:blip r:embed="rId1"/>
          <a:stretch/>
        </p:blipFill>
        <p:spPr>
          <a:xfrm>
            <a:off x="428760" y="642960"/>
            <a:ext cx="81439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Project Expert обеспечивает формирование стратегии финансирования"/>
          <p:cNvPicPr/>
          <p:nvPr/>
        </p:nvPicPr>
        <p:blipFill>
          <a:blip r:embed="rId1"/>
          <a:stretch/>
        </p:blipFill>
        <p:spPr>
          <a:xfrm>
            <a:off x="500040" y="714240"/>
            <a:ext cx="81327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9:48:05Z</dcterms:created>
  <dc:creator>ADMIN</dc:creator>
  <dc:description/>
  <dc:language>en-US</dc:language>
  <cp:lastModifiedBy>Маскаева Ольга Геннадьевна</cp:lastModifiedBy>
  <dcterms:modified xsi:type="dcterms:W3CDTF">2015-04-27T10:00:04Z</dcterms:modified>
  <cp:revision>17</cp:revision>
  <dc:subject/>
  <dc:title>Слайд 1</dc:title>
</cp:coreProperties>
</file>