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466-44B1-428F-B16E-ECBAC443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605-C285-4275-B48A-3D2B336B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5FF5-B092-4C33-8CE0-2A0E1CF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2E698-54DF-4724-8F3A-5CBFC107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403BD-3092-4D1C-A922-24A2735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2F2B1-8F6A-4B95-8FB2-F89CCF6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018DD-68DC-4DA2-AF78-594CC90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5DEE2-0756-48E1-9256-2C62CB9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0B19F-8A32-442D-B9AF-9627C0E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4DDEF-A0D0-40AC-8D87-00F038DE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0FCC3-FE75-4257-83B9-0A2EFFF3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131-1B6C-431F-86DC-F4211683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65E-391B-4C04-8476-AC2C162E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D10F-FB82-4FC4-8462-E6AAEB0C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6CBE-4339-4C1E-B4FB-B178B874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1FD-83E1-496F-A585-58A2276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8EB-C436-420E-B2F2-D5C41A7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6DA-776B-4C6F-B6B7-EAADA7DB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7663-647F-4CE3-B792-5C9651AC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D78A-30BA-4F8F-8FCA-9168154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B63-F4C7-409B-B7C0-63F5B2D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1932-F82C-4975-8DDF-01D5EBC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3175-4992-4462-ACE7-B8267D9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C2B1-8730-4CCA-A984-D7C6519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8ABF-152D-4800-9C6D-296BA700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0BD-4A6C-4E77-8C03-9900320E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3F7C-4A0F-4270-BDD9-64D13A58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9F368-3CAF-4F30-BC7B-7D5ECA86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2BB3-9075-454C-BDB3-C812452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672D-9E8E-43CA-8A68-BBCB9CF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BF0D-5E11-4D8C-BFDB-CCC6FB11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68F-E9AD-4323-AA7D-A2F24DC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A946-AD66-42B1-A9B5-AFBCF8D1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2F8D-9908-4A37-B298-98FFA11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4FA6-4262-4500-9A7C-C0212E1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BAE6-E864-40A3-8D90-ACF50BF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0FEF-55F3-46E7-9A7B-A4C0F582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084E-6303-42B3-B15D-25EBC36D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9056-5786-48EE-A4FC-34E2DE25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0C0A-0208-4C76-A919-55CCCEC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2F0B-2A1F-4B6F-BF12-55DD51B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D6A7-479C-45CD-ABB5-9F41B31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684-136D-42E4-9F68-31720E9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2BEC-F8B5-4D80-8587-F6FF69B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084D-45EF-4DBE-B28F-9D8B000E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C2BC-0DDF-4CB9-9561-D05E8F82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4A1C-6C25-4F8C-BA45-5BC1C87B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DF4C-0B21-410D-A534-28B0E46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A3AB-935C-464E-A321-C9B0143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ECBB-2EB6-4D96-B162-A9AA6AF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4B72-DAFE-4355-9DBC-9C442E34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A20C-8935-4A07-9E93-6FAEA6E9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93A0-8425-4A61-8445-D7C65B4C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526-47B7-42D3-BF2A-A15573BE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5FA3-CF56-409E-B898-7AC3927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B4F0-EDB8-4407-A49D-1777F077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D317-CD95-40B0-B85A-B0D0947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E6CA-3BDA-4034-A8AB-6DD9EC1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A03A-AB8B-4C04-923D-7E54CE85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5437B-2677-4115-9926-165D6638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4C1B-06AF-44F4-BB33-F8DB86E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A6E7-8DA6-4CFD-834A-187C5B2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2A9A-76FB-4189-ABB4-91FA355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9737-79E8-422A-91DA-2E024FC8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78A-86AE-4CD1-9A2E-166FB800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4C92-583F-4D6C-8CAA-6B553D47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39CF6-BC6A-4BB1-8443-B97DA07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26AC-A6B4-40B8-947B-9F9E55F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80F6C-9FF7-48BD-B07F-74B291F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BF17-F6B2-4304-AB47-6AFAE3ED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915C-B298-4EE8-AF38-500666D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37F8-8F78-427A-BBFA-7D974289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AB72-4CAD-4EC0-8EE8-536302E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9B3B8-009F-45F2-8762-D20E233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F77C-3BE0-4463-AF36-286FF6C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B25-3A3C-4DD9-AB95-95E67C6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6CEE-DE73-4A26-BB11-1AB13C7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FE171-5A55-4AE6-AAFB-B0852EC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BA0A-18D5-4539-BCF8-9C83F2AC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6A80-B792-45CE-984C-26A598EE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6523-EBF2-4FFB-B82B-97A2347C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E891-1562-4D79-8FD5-41B209A5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52FE6-DAAB-41F4-ABFB-11F36705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3F6B-3894-4880-ABD1-43C2E62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3BD5-112B-450C-AFB3-A23BB55C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8159-5314-4BE2-B382-E2B8D0C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FA3-0F26-4F65-B448-C13FF93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49D5-2AE2-458B-8231-50D015C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5568-4C94-4712-8E27-1269DA9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76677-D607-4D02-B42F-6211701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E834-8104-4B45-B426-B73591C8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46CAD-A7DB-4202-B1BE-924B972C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D0259-E042-4307-94D7-8F7B8C84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F49D-4256-4831-A5D5-D2D0595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34FA-869A-4E90-8945-AE6F4B3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61D61-B6D7-464C-B787-4988E4E0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1B369-34EC-4ED1-9191-8B01FF8F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395-1687-4832-B299-DA091659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FE563-0233-4FBE-A950-A10A8850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B824-D779-4897-8B12-6AB09CB5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0B79-A4F6-4A85-946F-0147BA07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13BCF-CB84-4B2F-9AC8-C337F50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6B59-5EB0-488E-9EB9-A5B93E8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83E5A-0306-4C78-9A74-B283D289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83E3F-26C2-40EC-9B90-F3B3AFAF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BC396-71D1-4051-AB42-510E00D9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E353C-C117-4A5A-BAB4-3008DC4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56F18-50AB-4EE9-A71B-8061B7BD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E7A-D0F3-451B-A9C8-C442840723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1F1-DDC9-452D-B589-D10F62D836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BD1-8C42-43B7-AFB2-5B11EAB6FF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илиния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1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4" name="Нашивка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ашивка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F0D-9E3B-4AA5-BE8F-E967026F2F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олилиния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лилиния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C43F-87BB-4D8B-A994-1EF5F9C0B0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295-111B-4480-A161-DA95ADF32E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олилиния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олилиния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8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190-9491-4180-8A45-C82D5C9845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E403-82C8-44B8-AC63-3755299716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олилиния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олилиния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6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9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8E2D-A767-4A38-B0F6-526D2545207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51920" y="2362320"/>
            <a:ext cx="8610840" cy="35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7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пользование ИКТ в учебном проце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4495680" y="152280"/>
            <a:ext cx="4496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едание педагогического со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я 2015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Verdana"/>
              </a:rPr>
              <a:t>РЕГЛАМЕН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ыступления – до 10 м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Принятие решения – до 5 м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Закончить педсов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за 1 час 30 м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Verdana"/>
              </a:rPr>
              <a:t>Состав комиссии по подработке решения: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лягина И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колова А. 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рченко И.Б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ект решения педсов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обрить опыт работы по использованию ИКТ и продолжить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методические рекомендации по формированию электронных учебных в АСУ «ProCollege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ок: сентябрь 201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. Тихонова И.Н., Серебренникова Е.А., Делягин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рограм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внести соответствующие изменения в ППСС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ок: сентябрь 2015, отв. Чухарев В.М., Кулиненко И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ть курсы в АСУ «ProCollege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ок: май 2016г.,  отв. председатели ЦМ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иселева Людмила Геннадьевна</cp:lastModifiedBy>
  <dcterms:modified xsi:type="dcterms:W3CDTF">2015-04-28T09:08:0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